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188-3257-48F0-B379-15F09E4D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3BD-44C9-4D59-9750-1AF9F3A9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9E1-71EA-4319-91D7-8808980D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B94-79D0-4D94-88B7-25176C0E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0C2-1276-4849-A8C8-9078A656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4E1-0F20-473A-9FB9-A84AC393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76F-F0C2-405F-83B8-9A4834E3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D02-5756-4809-968D-4168091B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3DB-2495-4E70-86B2-4158F44F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95A-C944-44C8-9123-07609B3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FB2-6374-46BA-8C42-DC1E249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3D9-ECD6-4AA5-802B-32FFC99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3BA-291C-42AD-861B-53E165D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1C6-DF73-4A7A-B338-A269B8F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9F88-E71C-4F47-AF91-E9B57B2F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3-23T13:32:50Z</dcterms:modified>
  <cp:revision>84</cp:revision>
  <dc:subject/>
  <dc:title>CRS Chapter 4</dc:title>
</cp:coreProperties>
</file>